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6B1-9430-422F-A8FE-DDCA72A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C7D-5039-4B1D-9D0B-D85F26C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55A-5CE2-4C8C-8D96-B84499FF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15B-DD19-4AAE-BC52-2796036A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BEA7-DE8D-44FE-9595-592C988D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CA4E-E017-4DBC-AE41-C4AC46B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EFA-FD1C-4243-B0F3-BA9D630F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0FD-298C-47CC-AC06-7930A3A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1E3E-2CD7-4319-BD71-1EE0A99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77C6-D859-4462-8A43-485997BD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AF69-4FFA-4F9C-8233-02BD9B1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82C-D8E4-4937-A70B-20A80F4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E5BD-CE2B-436D-9DF4-084B5CE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683A-D179-4E2A-B2F3-DF26135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49B6-DFCA-4477-A18E-5A872AD1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6F47-2E89-45CC-9DD0-AA59BCE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782-2BB8-40DC-B1E0-3E3C5AD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927-6A31-46FD-ACE5-1C8FBD1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820-0920-41A0-8CD2-24912796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F8E-23B6-431E-9ECC-8CA54CB0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6DD-2297-4A2F-8A4A-D387C47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3A9-8919-4C17-A126-0145B9B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71-EB70-4F46-AC09-671D252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AEE-A6BD-433C-BE55-13EA48A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D03-C523-4149-94FF-9DD842FC4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5C0-822D-4AA1-9069-D7F01AA812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ar.by-airforce.com/images/Italy-1943/Invasion_of_italy_1943-R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38080" y="609480"/>
            <a:ext cx="7391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poral Leander Guen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7" descr="82619"/>
          <p:cNvPicPr/>
          <p:nvPr/>
        </p:nvPicPr>
        <p:blipFill>
          <a:blip r:embed="rId1"/>
          <a:stretch/>
        </p:blipFill>
        <p:spPr>
          <a:xfrm>
            <a:off x="457200" y="182880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orporal,_East_Surrey_Regiment_1940"/>
          <p:cNvPicPr/>
          <p:nvPr/>
        </p:nvPicPr>
        <p:blipFill>
          <a:blip r:embed="rId2"/>
          <a:stretch/>
        </p:blipFill>
        <p:spPr>
          <a:xfrm>
            <a:off x="4038480" y="1828800"/>
            <a:ext cx="4838760" cy="376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57200" y="5791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Harold Alex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495680" y="5791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oral Leander Guen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italy-falls-to-allies-19"/>
          <p:cNvPicPr/>
          <p:nvPr/>
        </p:nvPicPr>
        <p:blipFill>
          <a:blip r:embed="rId1"/>
          <a:stretch/>
        </p:blipFill>
        <p:spPr>
          <a:xfrm>
            <a:off x="0" y="2286000"/>
            <a:ext cx="4486320" cy="3733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 txBox="1"/>
          <p:nvPr/>
        </p:nvSpPr>
        <p:spPr>
          <a:xfrm>
            <a:off x="2209680" y="3808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ing o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5" name="Picture 5" descr="Battle_of_Italy_1943-4.jpg"/>
          <p:cNvPicPr/>
          <p:nvPr/>
        </p:nvPicPr>
        <p:blipFill>
          <a:blip r:embed="rId2"/>
          <a:stretch/>
        </p:blipFill>
        <p:spPr>
          <a:xfrm>
            <a:off x="4648320" y="2590920"/>
            <a:ext cx="4316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nvasion_of_italy_1943"/>
          <p:cNvPicPr/>
          <p:nvPr/>
        </p:nvPicPr>
        <p:blipFill>
          <a:blip r:embed="rId1"/>
          <a:stretch/>
        </p:blipFill>
        <p:spPr>
          <a:xfrm>
            <a:off x="380880" y="1676520"/>
            <a:ext cx="3835440" cy="459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The Allied invasion of Ita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8288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3124080" y="457200"/>
            <a:ext cx="282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ps of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7200" y="6400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asion of Italy 19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80060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le of Italy 1943-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2444760" y="158760"/>
            <a:ext cx="4052880" cy="11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injured soldier.jpg"/>
          <p:cNvPicPr/>
          <p:nvPr/>
        </p:nvPicPr>
        <p:blipFill>
          <a:blip r:embed="rId2"/>
          <a:stretch/>
        </p:blipFill>
        <p:spPr>
          <a:xfrm>
            <a:off x="152280" y="1981080"/>
            <a:ext cx="3608640" cy="358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72284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15fig79"/>
          <p:cNvPicPr/>
          <p:nvPr/>
        </p:nvPicPr>
        <p:blipFill>
          <a:blip r:embed="rId1"/>
          <a:stretch/>
        </p:blipFill>
        <p:spPr>
          <a:xfrm>
            <a:off x="0" y="2514600"/>
            <a:ext cx="4191120" cy="36162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289548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r i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6" name="Picture 5" descr="Battle_of_Italy_1943-3.jpg"/>
          <p:cNvPicPr/>
          <p:nvPr/>
        </p:nvPicPr>
        <p:blipFill>
          <a:blip r:embed="rId2"/>
          <a:stretch/>
        </p:blipFill>
        <p:spPr>
          <a:xfrm>
            <a:off x="4495680" y="2362320"/>
            <a:ext cx="4419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1847880" y="158760"/>
            <a:ext cx="5259240" cy="11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1.bp.blogspot.com/_WJXcHLyr7IA/Rog036jfzJI/AAAAAAAABn4/NJoG2IHNQF8/s320/019.JPG"/>
          <p:cNvPicPr/>
          <p:nvPr/>
        </p:nvPicPr>
        <p:blipFill>
          <a:blip r:embed="rId2"/>
          <a:stretch/>
        </p:blipFill>
        <p:spPr>
          <a:xfrm>
            <a:off x="228600" y="1371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robert-mcdonald.com/images/ram-rank-ww2-corporal-l.gif"/>
          <p:cNvPicPr/>
          <p:nvPr/>
        </p:nvPicPr>
        <p:blipFill>
          <a:blip r:embed="rId3"/>
          <a:stretch/>
        </p:blipFill>
        <p:spPr>
          <a:xfrm>
            <a:off x="2209680" y="50292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Grave.jpg"/>
          <p:cNvPicPr/>
          <p:nvPr/>
        </p:nvPicPr>
        <p:blipFill>
          <a:blip r:embed="rId4"/>
          <a:srcRect l="28377" t="0" r="16487" b="48562"/>
          <a:stretch/>
        </p:blipFill>
        <p:spPr>
          <a:xfrm>
            <a:off x="4572000" y="2743200"/>
            <a:ext cx="3886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6:39Z</dcterms:created>
  <dc:creator>Information Technology</dc:creator>
  <dc:description/>
  <dc:language>en-US</dc:language>
  <cp:lastModifiedBy>Information Technology</cp:lastModifiedBy>
  <dcterms:modified xsi:type="dcterms:W3CDTF">2010-02-18T13:01:46Z</dcterms:modified>
  <cp:revision>16</cp:revision>
  <dc:subject/>
  <dc:title>Slide 1</dc:title>
</cp:coreProperties>
</file>